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2AD-E571-48BA-82D5-7443A0FE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4AD-4A19-4004-A971-D3644E6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C08-49D9-4620-AB8A-851CE1BF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3C2-17A2-4BEB-BBC6-2C08CEE0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3E18C-35A2-456E-9391-A0AFDFB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A8AF0-6464-4D17-8209-40EB0E4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75680-0194-4525-90DD-637D51CE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B7311-6AF6-4272-840F-3F53CE6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6560E-EBF1-488A-809C-8653EF6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69E39-1618-488F-AEC9-2C5BF400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6FF15-3734-468D-A84C-B3B8F5D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43C-7D94-4015-89BE-B2E6938A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1AB5B-ABCD-4007-86A3-D2B0A54B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92565-7A44-4BAD-AFCA-537B1B7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CF5B-6073-4116-84BB-3F1ABCF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AC186-B6B1-4412-AD93-D9D15D89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B483C-1FF8-443A-96A5-2251AC14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99B-FBA2-4E16-83A8-48409C8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B4D-F6C8-4A88-B938-021FC2B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7BD-F30E-4C29-8801-2EC38BD5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8DB-2E15-4CC9-9B6C-C1BF5FA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5CE-D441-40D3-B486-03823E7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B9A-E0FE-4EAC-8D6B-F817BB78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990-1F3A-4C7F-B3C2-07A38CA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CBD2-5D5C-4819-9262-EF470ADA2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E4DE-67C7-45CF-848A-48BE77108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5400" spc="-1" strike="noStrike" u="sng">
                <a:solidFill>
                  <a:srgbClr val="e3e3ff"/>
                </a:solidFill>
                <a:uFillTx/>
                <a:latin typeface="Arial"/>
              </a:rPr>
              <a:t>HOW  WAS  VEINCE  BULIT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ERE DOES VENICE STETCH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Venice stretches cross 117! Small islan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3e3ff"/>
                </a:solidFill>
                <a:latin typeface="Arial"/>
              </a:rPr>
              <a:t>WHAT’S  BELOW  VENIC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1:20:08Z</dcterms:created>
  <dc:creator>6g20</dc:creator>
  <dc:description/>
  <dc:language>en-US</dc:language>
  <cp:lastModifiedBy>6g20</cp:lastModifiedBy>
  <dcterms:modified xsi:type="dcterms:W3CDTF">2011-07-12T01:23:37Z</dcterms:modified>
  <cp:revision>2</cp:revision>
  <dc:subject/>
  <dc:title>HOW  WAS  VEINCE  BULIT </dc:title>
</cp:coreProperties>
</file>